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940-F71E-4656-B569-B54B8675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522-5C15-4E55-9389-B9ACA82E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261-5357-4589-B6AE-A8E68BEE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480-7246-42EC-99E3-F490FCF0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CDF1-99EE-4B83-8CC0-98ECDC70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6DB2-C4B8-4113-BC96-D9260E71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C489-B371-4D83-A81A-BC5B66EB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C188-D962-4291-9711-6427A2D0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94AC-FAE2-4F1A-9FE8-0E21A643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CB2E-147C-47C1-8F8F-42EB39C0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83B3-8D67-4043-AFEC-2E83B576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00F-23B5-4ED7-AC54-8AFA97F0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1CC6-4133-4E25-A058-2B479A58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7CC9-BC48-4F70-B25B-909A9A3F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7720-4806-4448-AF27-A0ABE544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3F34-C0E0-400C-9B61-C2B94531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3F11-1112-4FE4-93F8-A38C877E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52D-5E92-461A-BE4D-4FAD4A01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7F9-8A41-4193-9287-59C11114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725-662C-41B6-BB38-3524D64A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458-B900-4C1D-A328-53C401F7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121-AD38-4FEC-9308-4FFD6C8F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398-6613-4764-AD21-0F6A32AD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C5D-5974-474C-8CA7-5EE605B3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F41C-0D9F-4B4B-8577-35C0D604280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E150-3B8F-4145-B573-2525CC18A5E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A Remnant Shall Retur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 8  Lesson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s 27-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029200" y="4267080"/>
            <a:ext cx="99072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029200" y="4191120"/>
            <a:ext cx="10666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049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rritory Controlled By The Babylon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76520" y="4571640"/>
            <a:ext cx="33526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1028200">
            <a:off x="2666880" y="4419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p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457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0 Years of Cap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647712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3840" y="1484280"/>
            <a:ext cx="29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eremiah; La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zek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3808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Assyrian Empire Had Been Unsuccessful In Taking Jud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962520"/>
            <a:ext cx="1828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syria took charge of Israel by 721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429000" y="40384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28800" y="3049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ce The Various Empires and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1143000"/>
            <a:ext cx="68580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419720"/>
            <a:ext cx="762120" cy="533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1905120"/>
            <a:ext cx="137160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62485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bylonian Empire Would Not Survive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cerpts from the Book of Ezekiel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appeared to Ezekiel in vivid visions, telling him what he wanted the people to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had four primary objectives for Ezekiel to accomplis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ffff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troy any hope that the yoke of Babylon might be broken, and that exiles could soon go back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ffff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 God’s case against Israel showing them why they had been taken into cap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ffff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d sought to move His people to repentance by convicting them of their s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ffff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d wanted to offer His people hope, to encourage them to turn to Him and renew their efforts to serve H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Call of Ezekiel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1:1-3:27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zekiel dwelt among the captives by the river Chebar in the land of Baby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30-year old priest from J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was about to give him an express call to serve as a prophet to His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fourth month of the fifth year of his captivity, as he stood by the river, the heavens were opened and he saw visions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139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Vision as Ezekiel Describes It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1:1-28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storm cloud approaching with fire flashing conti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ud was a glow as of metal heated in the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f the midst of the cloud there came four living cr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ving cr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d the likeness of a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one had four faces and four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ir legs and feet were stra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faces – man, lion, ox, ea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had a wheel beside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143000"/>
          </a:xfrm>
          <a:prstGeom prst="rect">
            <a:avLst/>
          </a:prstGeom>
          <a:solidFill>
            <a:srgbClr val="006600">
              <a:alpha val="9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Vision as Ezekiel Describes It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1:1-28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the head of living creatures was a firmament like ice or crystal to look u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ve the firmament was the likeness of a throne with the appearance of a sapp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on the throne was the likeness of a man, from the waist up, He looked like a red hot metal in a glowing fire; from the waist down it looked like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a brightness that shone around Him, as the appearance of a rainbow on a rain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as the appearance of the glory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od gives Ezekiel his Commission to Prophes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2:1-3:27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tells Ezekiel;  “Son of man, I am sending you to the children of Israel, whether they will hear you or no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hard-headed, a rebellious house – yet they will know a prophet has been among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be afraid of them or their words, and do not be lik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your mouth and eat what I giv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and gave Ezekiel a scroll and when he spread it out he saw within and without were lamentations, mourning, and w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od gives Ezekiel his Commission to Prophes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2:1-3:27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tells Ezekiel, “Son of man, eat this roll, and go, speak to the house of Israe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zekiel ate the scroll, and it was sweet as honey in his 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continued:  “Go to the house of Israel and speak My words unto th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ve a hard head and a stiff hea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 have made your head harder than theirs, I have made your head harder than flint, so be not afraid of their loo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od gives Ezekiel his Commission to Prophes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2:1-3:27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irit lifted up Ezekiel and transported him, he went in bitterness, in agitation of spirit, and the hand of the Lord was strong upon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came to the captives at Telabib, by the river Chebar, and the prophet sat there and overwhelmed for seven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7 days, God tells Ezekiel, “When I say to the wicked, ‘You shall die,’ and you fail to warn him, he will surely die in his iniquity, but I will hold you responsible for his blood.  But if he does not listen, he shall die in his sin, but you will save yoursel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od gives Ezekiel his Commission to Prophes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2:1-3:27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tells Ezekiel, “go to the plain and I will talk with you the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ut yourself up within your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be confined with ropes so you cannot go out among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make your tongue stick to the roof of your mouth so you will b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as probably figurative language telling Ezekiel not to go constantly on his own reproving the people, but only when God gave him a special rev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98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98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98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3:31:35Z</dcterms:created>
  <dc:creator>Terry W. Benton</dc:creator>
  <dc:description/>
  <dc:language>en-US</dc:language>
  <cp:lastModifiedBy>Frank D Vines</cp:lastModifiedBy>
  <dcterms:modified xsi:type="dcterms:W3CDTF">2007-02-01T15:55:19Z</dcterms:modified>
  <cp:revision>55</cp:revision>
  <dc:subject/>
  <dc:title>A Remnant Shall Return</dc:title>
</cp:coreProperties>
</file>